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wmf" ContentType="image/x-wmf"/>
  <Override PartName="/ppt/media/image17.jpeg" ContentType="image/jpeg"/>
  <Override PartName="/ppt/media/image3.png" ContentType="image/png"/>
  <Override PartName="/ppt/media/image4.wmf" ContentType="image/x-wmf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7EA7-42DF-41CE-B481-AF1A03AC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4E4B-7485-4E5E-A709-39E19126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E47F-262E-4DCC-B488-8CCA7808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0DAE-A7C2-4CDA-A696-E49BF59C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EF0C-C833-4367-9990-E17B0001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9541-37AF-4CAB-A747-C021CDBB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DF6A-39F5-4D7B-8AB7-FB396831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53E0-CE0A-4843-AA3B-015A0248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5824-EBB0-4EDB-B7CC-E7C1AFBF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8638-D2EF-4D2C-9B80-FF727170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5713-9F50-4B1D-A4BB-462782D3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7788-6C74-494D-9320-7A483CD0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F1E8-F061-4828-959B-ACD84ECBC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5.wm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5" descr=""/>
          <p:cNvPicPr/>
          <p:nvPr/>
        </p:nvPicPr>
        <p:blipFill>
          <a:blip r:embed="rId1"/>
          <a:stretch/>
        </p:blipFill>
        <p:spPr>
          <a:xfrm>
            <a:off x="311040" y="30240"/>
            <a:ext cx="8613720" cy="2006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2324880" y="2002320"/>
            <a:ext cx="5667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過        聖誕樹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禮物      卡片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 </a:t>
            </a:r>
            <a:r>
              <a:rPr b="1" lang="zh-CN" sz="6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聖誕老人（老公公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MCj04240440000[1]"/>
          <p:cNvPicPr/>
          <p:nvPr/>
        </p:nvPicPr>
        <p:blipFill>
          <a:blip r:embed="rId2"/>
          <a:stretch/>
        </p:blipFill>
        <p:spPr>
          <a:xfrm>
            <a:off x="2209680" y="2057400"/>
            <a:ext cx="1019160" cy="857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j0436272"/>
          <p:cNvPicPr/>
          <p:nvPr/>
        </p:nvPicPr>
        <p:blipFill>
          <a:blip r:embed="rId3"/>
          <a:stretch/>
        </p:blipFill>
        <p:spPr>
          <a:xfrm>
            <a:off x="7391520" y="1752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3048120" y="3809880"/>
            <a:ext cx="1123920" cy="1114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MCj04115560000[1]"/>
          <p:cNvPicPr/>
          <p:nvPr/>
        </p:nvPicPr>
        <p:blipFill>
          <a:blip r:embed="rId5"/>
          <a:stretch/>
        </p:blipFill>
        <p:spPr>
          <a:xfrm>
            <a:off x="7315200" y="3733920"/>
            <a:ext cx="1019160" cy="100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MPj04403070000[1]"/>
          <p:cNvPicPr/>
          <p:nvPr/>
        </p:nvPicPr>
        <p:blipFill>
          <a:blip r:embed="rId6"/>
          <a:stretch/>
        </p:blipFill>
        <p:spPr>
          <a:xfrm>
            <a:off x="457200" y="5032440"/>
            <a:ext cx="16765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1529640" y="1773000"/>
            <a:ext cx="59594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他 （們）</a:t>
            </a:r>
            <a:r>
              <a:rPr b="1" lang="zh-CN" sz="72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在</a:t>
            </a:r>
            <a:r>
              <a:rPr b="1" lang="zh-CN" sz="6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哪 裡</a:t>
            </a:r>
            <a:r>
              <a:rPr b="1" lang="en-US" sz="6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你 </a:t>
            </a:r>
            <a:r>
              <a:rPr b="1" lang="zh-CN" sz="72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在</a:t>
            </a:r>
            <a:r>
              <a:rPr b="1" lang="zh-CN" sz="6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做 什 麼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3993120" y="2286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在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030709shandiwuline.JPG"/>
          <p:cNvPicPr/>
          <p:nvPr/>
        </p:nvPicPr>
        <p:blipFill>
          <a:blip r:embed="rId1"/>
          <a:stretch/>
        </p:blipFill>
        <p:spPr>
          <a:xfrm>
            <a:off x="6858000" y="3808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make phone call 120709.jpg"/>
          <p:cNvPicPr/>
          <p:nvPr/>
        </p:nvPicPr>
        <p:blipFill>
          <a:blip r:embed="rId2"/>
          <a:stretch/>
        </p:blipFill>
        <p:spPr>
          <a:xfrm>
            <a:off x="4876920" y="2895480"/>
            <a:ext cx="1950840" cy="1951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market 1 120709.jpg"/>
          <p:cNvPicPr/>
          <p:nvPr/>
        </p:nvPicPr>
        <p:blipFill>
          <a:blip r:embed="rId3"/>
          <a:stretch/>
        </p:blipFill>
        <p:spPr>
          <a:xfrm>
            <a:off x="762120" y="2895480"/>
            <a:ext cx="2235240" cy="1676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IMG_8924.JPG"/>
          <p:cNvPicPr/>
          <p:nvPr/>
        </p:nvPicPr>
        <p:blipFill>
          <a:blip r:embed="rId4"/>
          <a:stretch/>
        </p:blipFill>
        <p:spPr>
          <a:xfrm>
            <a:off x="1066680" y="304920"/>
            <a:ext cx="1752840" cy="11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451080" y="1015200"/>
            <a:ext cx="83430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我 </a:t>
            </a:r>
            <a:r>
              <a:rPr b="1" lang="zh-CN" sz="72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在</a:t>
            </a:r>
            <a:r>
              <a:rPr b="1" lang="en-US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+ </a:t>
            </a:r>
            <a:r>
              <a:rPr b="1" lang="zh-CN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（</a:t>
            </a:r>
            <a:r>
              <a:rPr b="1" lang="en-US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place </a:t>
            </a:r>
            <a:r>
              <a:rPr b="1" lang="zh-CN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地方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爺爺，奶奶 ，外公，外婆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學校，公園，家，市場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做點心，畫圖，看書，念故事</a:t>
            </a:r>
            <a:r>
              <a:rPr b="0" lang="en-US" sz="2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etc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我 </a:t>
            </a:r>
            <a:r>
              <a:rPr b="1" lang="zh-CN" sz="66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在</a:t>
            </a:r>
            <a:r>
              <a:rPr b="1" lang="zh-CN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</a:t>
            </a:r>
            <a:r>
              <a:rPr b="1" lang="en-US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+ (being verb </a:t>
            </a:r>
            <a:r>
              <a:rPr b="1" lang="zh-CN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做。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writing 090909.jpg"/>
          <p:cNvPicPr/>
          <p:nvPr/>
        </p:nvPicPr>
        <p:blipFill>
          <a:blip r:embed="rId1"/>
          <a:stretch/>
        </p:blipFill>
        <p:spPr>
          <a:xfrm>
            <a:off x="6629400" y="3809880"/>
            <a:ext cx="1625760" cy="1117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reading 090909.jpg"/>
          <p:cNvPicPr/>
          <p:nvPr/>
        </p:nvPicPr>
        <p:blipFill>
          <a:blip r:embed="rId2"/>
          <a:stretch/>
        </p:blipFill>
        <p:spPr>
          <a:xfrm>
            <a:off x="4572000" y="3505320"/>
            <a:ext cx="162576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-17640" y="631800"/>
            <a:ext cx="916164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外婆</a:t>
            </a:r>
            <a:r>
              <a:rPr b="1" lang="zh-TW" sz="40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到</a:t>
            </a:r>
            <a:r>
              <a:rPr b="1" lang="zh-TW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舅舅家</a:t>
            </a:r>
            <a:r>
              <a:rPr b="1" lang="zh-TW" sz="40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去</a:t>
            </a:r>
            <a:r>
              <a:rPr b="1" lang="zh-TW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吃點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外婆</a:t>
            </a:r>
            <a:r>
              <a:rPr b="1" lang="zh-TW" sz="40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到</a:t>
            </a:r>
            <a:r>
              <a:rPr b="1" lang="zh-TW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市場</a:t>
            </a:r>
            <a:r>
              <a:rPr b="1" lang="zh-TW" sz="40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去</a:t>
            </a:r>
            <a:r>
              <a:rPr b="1" lang="zh-TW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買</a:t>
            </a:r>
            <a:r>
              <a:rPr b="1" lang="zh-CN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木</a:t>
            </a:r>
            <a:r>
              <a:rPr b="1" lang="zh-TW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瓜，香蕉，</a:t>
            </a:r>
            <a:r>
              <a:rPr b="1" lang="zh-TW" sz="40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還有</a:t>
            </a:r>
            <a:r>
              <a:rPr b="1" lang="zh-TW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蘋果</a:t>
            </a:r>
            <a:r>
              <a:rPr b="1" lang="en-US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爺爺</a:t>
            </a:r>
            <a:r>
              <a:rPr b="1" lang="zh-TW" sz="40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沒有</a:t>
            </a:r>
            <a:r>
              <a:rPr b="1" lang="zh-CN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顏</a:t>
            </a:r>
            <a:r>
              <a:rPr b="1" lang="zh-TW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色筆，</a:t>
            </a:r>
            <a:r>
              <a:rPr b="1" lang="zh-TW" sz="40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只有</a:t>
            </a:r>
            <a:r>
              <a:rPr b="1" lang="zh-TW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鉛筆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0" descr="MCj04123920000[1]"/>
          <p:cNvPicPr/>
          <p:nvPr/>
        </p:nvPicPr>
        <p:blipFill>
          <a:blip r:embed="rId1"/>
          <a:stretch/>
        </p:blipFill>
        <p:spPr>
          <a:xfrm>
            <a:off x="1143000" y="5410080"/>
            <a:ext cx="1066680" cy="868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1" descr="MCj04348720000[1]"/>
          <p:cNvPicPr/>
          <p:nvPr/>
        </p:nvPicPr>
        <p:blipFill>
          <a:blip r:embed="rId2"/>
          <a:stretch/>
        </p:blipFill>
        <p:spPr>
          <a:xfrm rot="16973400">
            <a:off x="4814640" y="5295240"/>
            <a:ext cx="879480" cy="1200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papayas.jpg"/>
          <p:cNvPicPr/>
          <p:nvPr/>
        </p:nvPicPr>
        <p:blipFill>
          <a:blip r:embed="rId3"/>
          <a:stretch/>
        </p:blipFill>
        <p:spPr>
          <a:xfrm>
            <a:off x="1295280" y="2895480"/>
            <a:ext cx="1279800" cy="1300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watermelons 020909.jpg"/>
          <p:cNvPicPr/>
          <p:nvPr/>
        </p:nvPicPr>
        <p:blipFill>
          <a:blip r:embed="rId4"/>
          <a:stretch/>
        </p:blipFill>
        <p:spPr>
          <a:xfrm>
            <a:off x="4191120" y="3048120"/>
            <a:ext cx="1625400" cy="1434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one banana 020909.jpg"/>
          <p:cNvPicPr/>
          <p:nvPr/>
        </p:nvPicPr>
        <p:blipFill>
          <a:blip r:embed="rId5"/>
          <a:stretch/>
        </p:blipFill>
        <p:spPr>
          <a:xfrm>
            <a:off x="2666880" y="2971800"/>
            <a:ext cx="1067040" cy="1109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4 apples020909.jpg"/>
          <p:cNvPicPr/>
          <p:nvPr/>
        </p:nvPicPr>
        <p:blipFill>
          <a:blip r:embed="rId6"/>
          <a:stretch/>
        </p:blipFill>
        <p:spPr>
          <a:xfrm>
            <a:off x="304920" y="3048120"/>
            <a:ext cx="904680" cy="117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MCj04115560000[1]"/>
          <p:cNvPicPr/>
          <p:nvPr/>
        </p:nvPicPr>
        <p:blipFill>
          <a:blip r:embed="rId7"/>
          <a:stretch/>
        </p:blipFill>
        <p:spPr>
          <a:xfrm>
            <a:off x="6095880" y="3124080"/>
            <a:ext cx="1019160" cy="1009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j0436272"/>
          <p:cNvPicPr/>
          <p:nvPr/>
        </p:nvPicPr>
        <p:blipFill>
          <a:blip r:embed="rId8"/>
          <a:stretch/>
        </p:blipFill>
        <p:spPr>
          <a:xfrm>
            <a:off x="7391520" y="28954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64440" y="1165320"/>
            <a:ext cx="89769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我有 </a:t>
            </a:r>
            <a:r>
              <a:rPr b="1" lang="en-US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+ object A (more) , </a:t>
            </a:r>
            <a:br>
              <a:rPr sz="4800"/>
            </a:br>
            <a:r>
              <a:rPr b="1" lang="en-US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+</a:t>
            </a:r>
            <a:r>
              <a:rPr b="1" lang="zh-CN" sz="54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可是</a:t>
            </a:r>
            <a:r>
              <a:rPr b="1" lang="zh-CN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只有 </a:t>
            </a:r>
            <a:r>
              <a:rPr b="1" lang="en-US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+ object B (les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我有三個姐姐，</a:t>
            </a:r>
            <a:br>
              <a:rPr sz="4800"/>
            </a:br>
            <a:r>
              <a:rPr b="1" lang="en-US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    </a:t>
            </a:r>
            <a:r>
              <a:rPr b="1" lang="zh-TW" sz="60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可是</a:t>
            </a:r>
            <a:r>
              <a:rPr b="1" lang="zh-TW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只有一個哥哥</a:t>
            </a:r>
            <a:r>
              <a:rPr b="1" lang="zh-TW" sz="6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433320" y="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可是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-303480" y="1239840"/>
            <a:ext cx="990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我</a:t>
            </a:r>
            <a:r>
              <a:rPr b="1" lang="zh-CN" sz="60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有</a:t>
            </a:r>
            <a:r>
              <a:rPr b="1" lang="zh-CN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</a:t>
            </a:r>
            <a:r>
              <a:rPr b="1" lang="en-US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+ (list of items)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60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還有</a:t>
            </a:r>
            <a:r>
              <a:rPr b="1" lang="zh-CN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</a:t>
            </a:r>
            <a:r>
              <a:rPr b="1" lang="en-US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+ (additional items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我</a:t>
            </a:r>
            <a:r>
              <a:rPr b="1" lang="zh-CN" sz="60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有</a:t>
            </a:r>
            <a:r>
              <a:rPr b="1" lang="zh-CN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姊姊，</a:t>
            </a:r>
            <a:r>
              <a:rPr b="1" lang="zh-CN" sz="60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還有</a:t>
            </a:r>
            <a:r>
              <a:rPr b="1" lang="zh-CN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哥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583240" y="22860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還有。。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2506680" y="0"/>
            <a:ext cx="129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有。。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1797120" y="-119880"/>
            <a:ext cx="5438520" cy="71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我喜歡</a:t>
            </a:r>
            <a:r>
              <a:rPr b="1" lang="zh-CN" sz="54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過</a:t>
            </a:r>
            <a:r>
              <a:rPr b="1" lang="zh-CN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聖誕節．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我叔叔買了很多聖誕</a:t>
            </a:r>
            <a:r>
              <a:rPr b="1" lang="zh-TW" sz="54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禮物</a:t>
            </a:r>
            <a:r>
              <a:rPr b="1" lang="zh-TW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．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我姊姊做了三張聖誕</a:t>
            </a:r>
            <a:r>
              <a:rPr b="1" lang="zh-TW" sz="54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卡片</a:t>
            </a:r>
            <a:r>
              <a:rPr b="1" lang="zh-TW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．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我家的</a:t>
            </a:r>
            <a:r>
              <a:rPr b="1" lang="zh-TW" sz="54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聖誕樹</a:t>
            </a:r>
            <a:r>
              <a:rPr b="1" lang="zh-TW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很大／高／美麗．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聖誕老人</a:t>
            </a:r>
            <a:r>
              <a:rPr b="1" lang="zh-TW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給了我很多禮物</a:t>
            </a:r>
            <a:r>
              <a:rPr b="1" lang="zh-TW" sz="6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9:16:41Z</dcterms:created>
  <dc:creator>Monica</dc:creator>
  <dc:description/>
  <dc:language>en-US</dc:language>
  <cp:lastModifiedBy>Monica</cp:lastModifiedBy>
  <dcterms:modified xsi:type="dcterms:W3CDTF">2009-12-14T18:31:22Z</dcterms:modified>
  <cp:revision>2</cp:revision>
  <dc:subject/>
  <dc:title>Slide 1</dc:title>
</cp:coreProperties>
</file>